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1AA-7EF8-43C6-BC29-DAFC498D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228-782C-45E1-8BCD-2E1C0297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513-D3FF-4669-BF1D-EC46EC8F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E60-45A1-4059-9CE0-C7DB16F5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1D30-F8C2-4F38-98A4-99277A08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BEEE-682C-4970-9ABA-3E0A214A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4518-0A85-4731-A86F-648E3A8C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8083-CC64-4709-9550-926AA175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1319-0353-4688-8CFA-0F5299B7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A244-8CE2-4A6F-8D30-14C37B9B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E37A-239A-4E1C-8CC1-842F4F41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415-CFC4-408F-89AB-AAC182AF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86F5-37E5-4A3D-8A82-4E41C44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FE31-C63D-4890-920C-A895CEA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8ADF-B5C7-40AC-9620-9C4787F3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8DE7-945A-459C-8C5E-9A1A484B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0DD3-3DBA-4F7E-9584-46BEC5D5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E3E-652E-4C13-87F8-CC55080C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307-6B8A-4994-B0BB-E5F775F2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416-EFB2-4981-9B35-E976E762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779-3914-4BB7-B704-F03EC94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F30-08CF-4106-903B-0C7EC55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311-7C7C-479C-BEAC-B4D3781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06A-8026-48B3-89F7-71869E3C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D4AA-80AB-4FC5-A12D-B62105899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08E5-466E-46BE-A2F3-83CA26B1E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мпрессион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такое импрессиониз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ые темы и направления импрессионизма во французской живопи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оположники и главные представители этого теч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лавные проблемы и идеи импрессиониз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Клод Моне Утес Уелк"/>
          <p:cNvPicPr/>
          <p:nvPr/>
        </p:nvPicPr>
        <p:blipFill>
          <a:blip r:embed="rId1"/>
          <a:stretch/>
        </p:blipFill>
        <p:spPr>
          <a:xfrm>
            <a:off x="539640" y="692280"/>
            <a:ext cx="273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Клод Моне Закат"/>
          <p:cNvPicPr/>
          <p:nvPr/>
        </p:nvPicPr>
        <p:blipFill>
          <a:blip r:embed="rId2"/>
          <a:stretch/>
        </p:blipFill>
        <p:spPr>
          <a:xfrm>
            <a:off x="324000" y="3573360"/>
            <a:ext cx="3816360" cy="3284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56000" y="476280"/>
            <a:ext cx="446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Моне Клод Оскар (1840-1926), французский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ец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Учился в частных студиях в Париже, изучал японскую гравюру на дерев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Моне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ремился передавать средствами пленэрной живописи изменчивость световоздушной среды, красочное богатство мира, сохраняя при этом свежесть первого зрительного впечатления от природ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. В своих пейзажных композиция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н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воссоздавал вибрацию света и воздуха с помощью мелких раздельных мазков чистого цвета и дополнительных тонов основного спектра, рассчитывая на их оптическое совмещение в процессе зрительного восприят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ремясь запечатлеть многообразные переходные состояния природы в разное время дня и при разной погоде, Моне создал в 1890-е годы серии картин-вариаций на один сюжетный мотив (серия “Руанские соборы”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Клод Моне Паруса"/>
          <p:cNvPicPr/>
          <p:nvPr/>
        </p:nvPicPr>
        <p:blipFill>
          <a:blip r:embed="rId1"/>
          <a:stretch/>
        </p:blipFill>
        <p:spPr>
          <a:xfrm>
            <a:off x="1692360" y="189000"/>
            <a:ext cx="5905440" cy="468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95640" y="5373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.Моне «Паруса в Аржантейле» 18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Эдуард Мане В кабачке папаши Латюиля"/>
          <p:cNvPicPr/>
          <p:nvPr/>
        </p:nvPicPr>
        <p:blipFill>
          <a:blip r:embed="rId1"/>
          <a:stretch/>
        </p:blipFill>
        <p:spPr>
          <a:xfrm>
            <a:off x="4859280" y="115920"/>
            <a:ext cx="4105440" cy="3743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3311280" cy="4149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140360" y="378936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Мане Эдуард (1832-1883), французский живописец. Учился в парижской Школе изящных искусст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65300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Используя и переосмысляя сюжеты и мотивы живописи старых мастеров, он стремился наполнить их актуальным содержанием, полемически, иногда эпатирующим образом внести в известные классические композиции изображение современного челове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но его проникновенное внимание к современности проявлялось прежде всего в сценах, словно бы выхваченных из будничного течения жизни, полных лирической одухотворенности и внутренней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м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eec94"/>
                </a:solidFill>
                <a:latin typeface="Times New Roman"/>
              </a:rPr>
              <a:t>Своим творчеством Мане предвосхитил возникновение, а затем стал и одним из основоположников импрессионизма. В конце 1860-х годов он сблизился с Э.Дега, К.Моне, О.Ренуаром, перешел от глухих и плотных тонов, напряженного колорита с преобладанием темных цветов к светлой и свободной пленэрной живописи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Эдуард Мане"/>
          <p:cNvPicPr/>
          <p:nvPr/>
        </p:nvPicPr>
        <p:blipFill>
          <a:blip r:embed="rId1"/>
          <a:stretch/>
        </p:blipFill>
        <p:spPr>
          <a:xfrm>
            <a:off x="250920" y="4508640"/>
            <a:ext cx="2160360" cy="1942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Эдуард Мане"/>
          <p:cNvPicPr/>
          <p:nvPr/>
        </p:nvPicPr>
        <p:blipFill>
          <a:blip r:embed="rId2"/>
          <a:stretch/>
        </p:blipFill>
        <p:spPr>
          <a:xfrm>
            <a:off x="3564000" y="3284640"/>
            <a:ext cx="1655640" cy="2303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Эдуард Мане"/>
          <p:cNvPicPr/>
          <p:nvPr/>
        </p:nvPicPr>
        <p:blipFill>
          <a:blip r:embed="rId3"/>
          <a:stretch/>
        </p:blipFill>
        <p:spPr>
          <a:xfrm>
            <a:off x="6443640" y="4508640"/>
            <a:ext cx="2365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075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Многим произведениям Мане свойственны импрессионистические живописная свобода и фрагментарность композиции, светонасыщенная вибрирующая красочная гамма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В то же время он сохраняет ясность рисунка, серые и черные тона в колорите, отдает предпочтение не пейзажу, а бытовому сюжету с выраженной социально-психологической подосновой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Творчество Мане обновило традиции французской живописи XIX века и во многом определило дальнейшее развитие мирового изобразительного искусств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Эдуард Мане"/>
          <p:cNvPicPr/>
          <p:nvPr/>
        </p:nvPicPr>
        <p:blipFill>
          <a:blip r:embed="rId1"/>
          <a:stretch/>
        </p:blipFill>
        <p:spPr>
          <a:xfrm>
            <a:off x="3492360" y="3141720"/>
            <a:ext cx="2016360" cy="273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Эдуард Мане"/>
          <p:cNvPicPr/>
          <p:nvPr/>
        </p:nvPicPr>
        <p:blipFill>
          <a:blip r:embed="rId2"/>
          <a:stretch/>
        </p:blipFill>
        <p:spPr>
          <a:xfrm>
            <a:off x="6300720" y="3645000"/>
            <a:ext cx="2737080" cy="2376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Эдуард Мане"/>
          <p:cNvPicPr/>
          <p:nvPr/>
        </p:nvPicPr>
        <p:blipFill>
          <a:blip r:embed="rId3"/>
          <a:stretch/>
        </p:blipFill>
        <p:spPr>
          <a:xfrm>
            <a:off x="324000" y="4005360"/>
            <a:ext cx="194436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333360"/>
            <a:ext cx="4681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нуар Пьер Огюст (1841- 1919). Учился в Школе изящных искусств. Портреты Ренуара не отличаются сложным внутренним психологизмом, присущим его предшественникам, но особое очарование придает им ощущение сиюминутности происходящего. Беззаботной жизнерадостностью и восхитительной легкостью веет от женских и детских портретов Рену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816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59280" y="4221000"/>
            <a:ext cx="56880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4714560" cy="6075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68360" y="1413000"/>
            <a:ext cx="3382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грудный портрет актрисы Самари завораживает жизнерадостностью колорита, искристой игрой, создаваемой мазками розового цвета. Холодное мерцание голубовато-зеленого платья изысканно сочетается с рыжевато-каштановым цветом волос, внимательно, с чуть заметной лукавинкой смотрят на зрителя сияющие темно-синие глаза молодой женщ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" descr="Пабло Пикассо Девочка на шаре"/>
          <p:cNvPicPr/>
          <p:nvPr/>
        </p:nvPicPr>
        <p:blipFill>
          <a:blip r:embed="rId1"/>
          <a:stretch/>
        </p:blipFill>
        <p:spPr>
          <a:xfrm>
            <a:off x="324000" y="404640"/>
            <a:ext cx="2952720" cy="266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Пабло Пикассо Женщины"/>
          <p:cNvPicPr/>
          <p:nvPr/>
        </p:nvPicPr>
        <p:blipFill>
          <a:blip r:embed="rId2"/>
          <a:stretch/>
        </p:blipFill>
        <p:spPr>
          <a:xfrm>
            <a:off x="5292720" y="3429000"/>
            <a:ext cx="3851280" cy="3429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348000" y="260280"/>
            <a:ext cx="56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абло Руис Пикассо - испанский художник и скульптор. Пикассо - изобретатель новых форм живописи, новатор стилей и методов, и один из наиболее плодовитых художников в истор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15 он блестяще сдал приемный экзамен в Школу Изящных Искусств в Барсело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или французских художников- импрессионистов, особенно оказали сильное влияние на формирование творческой манеры Пикассо в этот период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Г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лубой перио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 Пикассо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назван так, поскольку различные оттенки голубого и синего доминировали в его работах в течение последующих нескольких ле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3860640"/>
            <a:ext cx="48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тображая человеческие страдания, Пикассо в этот период рисовал слепых, нищих, алкоголиков и проституто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Как будто луч надежды проникает в души его героев вместе с появлением в красочной гамме его картин более светлы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и прозрачных цветов: к осветленным оттенкам синего цвета присоединяются розовые, пепельно-розовые, золотисто-розовые то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5" name="" descr="Пабло Пикассо Портрет Амбруаза Валлора"/>
          <p:cNvPicPr/>
          <p:nvPr/>
        </p:nvPicPr>
        <p:blipFill>
          <a:blip r:embed="rId1"/>
          <a:stretch/>
        </p:blipFill>
        <p:spPr>
          <a:xfrm>
            <a:off x="324000" y="404640"/>
            <a:ext cx="3456000" cy="32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Пабло Пикассо"/>
          <p:cNvPicPr/>
          <p:nvPr/>
        </p:nvPicPr>
        <p:blipFill>
          <a:blip r:embed="rId2"/>
          <a:stretch/>
        </p:blipFill>
        <p:spPr>
          <a:xfrm>
            <a:off x="4284720" y="549360"/>
            <a:ext cx="2303280" cy="2016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Пабло Пикассо"/>
          <p:cNvPicPr/>
          <p:nvPr/>
        </p:nvPicPr>
        <p:blipFill>
          <a:blip r:embed="rId3"/>
          <a:stretch/>
        </p:blipFill>
        <p:spPr>
          <a:xfrm>
            <a:off x="6912000" y="256536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11280" y="4653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осле периода сезанниз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н уделяет особое внимание превращению форм в геометрические блоки, рассекает их на плоскости и грани, продолжающиеся в пространстве, которое сам он считает твердым телом, неизбежно ограниченным плоскостью карти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ерспектива исчезает, палитра тяготеет к монохромности, картины Пикассо зачастую сводятся к непонятным ребус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Пабло Пикассо Поль в костюме Арлекина"/>
          <p:cNvPicPr/>
          <p:nvPr/>
        </p:nvPicPr>
        <p:blipFill>
          <a:blip r:embed="rId1"/>
          <a:stretch/>
        </p:blipFill>
        <p:spPr>
          <a:xfrm>
            <a:off x="539640" y="404640"/>
            <a:ext cx="4032360" cy="381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Пабло Пикассо"/>
          <p:cNvPicPr/>
          <p:nvPr/>
        </p:nvPicPr>
        <p:blipFill>
          <a:blip r:embed="rId2"/>
          <a:stretch/>
        </p:blipFill>
        <p:spPr>
          <a:xfrm>
            <a:off x="5472000" y="3500280"/>
            <a:ext cx="3672000" cy="3168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450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.Пикассо «Поль в костюме Арлекина» 192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 Пикассо «Мальчик с коне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33360"/>
            <a:ext cx="3851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рессионизм (от франц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pression 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печатлени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, направление в живописи, зародившееся во Франции в 1860-х гг. и во многом определившее развитие искусства 19 века. Центральными фигурами этого направления был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езанн, Дег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не, Моне, Писсарро, Ренуар 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ле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и вклад каждого из них в его развитие уникален. Импрессионисты выступали против условностей классицизма, романтизма и академизма, утверждали красоту повседневной действительности, простых, демократических мотивов, добивались живой достоверности изображения, пытались уловить «впечатление» от того, что глаз видит в конкретны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0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" descr="Альфред Сислей Мост в Морэ ранним утром"/>
          <p:cNvPicPr/>
          <p:nvPr/>
        </p:nvPicPr>
        <p:blipFill>
          <a:blip r:embed="rId1"/>
          <a:stretch/>
        </p:blipFill>
        <p:spPr>
          <a:xfrm>
            <a:off x="5435640" y="260280"/>
            <a:ext cx="3513240" cy="3097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11280" y="47628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исле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Альфред (1839-1899), французский живописец. По происхождению англичани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дин из ведущих мастеров импрессионизма, Сислей писал непритязательные по мотивам пейзажи окрестностей Парижа, отмеченные тонким лиризмом и выдержанные в свежей и сдержанной световой гам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Альфред Сислей Берег Сены у Буживаля"/>
          <p:cNvPicPr/>
          <p:nvPr/>
        </p:nvPicPr>
        <p:blipFill>
          <a:blip r:embed="rId2"/>
          <a:stretch/>
        </p:blipFill>
        <p:spPr>
          <a:xfrm>
            <a:off x="539640" y="3068640"/>
            <a:ext cx="3961080" cy="3313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788000" y="3716280"/>
            <a:ext cx="41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ейзажи Сислея, передающие подлинную атмосферу Иль-де-Франса, хранят в себе особую прозрачность и мягкость природных явлений всех времен года. Его чарующие изображения природы с легким оттенком грусти завораживают удивительной передачей настроения в данный момент времен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Сезанн Поль (1839-1906), французский живописец. Учился в частной академии Сюиса в Париже</a:t>
            </a: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Принципиально расходясь с методом импрессионизма, Сезанн интересовался не динамикой световоздушной среды и изменчивостью цвета в атмосфере, а устойчивыми закономерностями цветовых сочетаний и форм, материальностью предметного и природного миров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Оперируя преимущественно градациями трех основных цветов (зеленого, голубого и желтого), то тонкими и прозрачными, то резко контрастными, нанесенными плотными корпусными мазками, он обозначал с их помощью пространственные планы и степень освещенности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0" name="" descr="Поль Сезанн Натюрморт с драпировкой"/>
          <p:cNvPicPr/>
          <p:nvPr/>
        </p:nvPicPr>
        <p:blipFill>
          <a:blip r:embed="rId1"/>
          <a:stretch/>
        </p:blipFill>
        <p:spPr>
          <a:xfrm>
            <a:off x="179280" y="3500280"/>
            <a:ext cx="3672000" cy="3357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Поль Сезанн Дома в Провансе"/>
          <p:cNvPicPr/>
          <p:nvPr/>
        </p:nvPicPr>
        <p:blipFill>
          <a:blip r:embed="rId2"/>
          <a:stretch/>
        </p:blipFill>
        <p:spPr>
          <a:xfrm>
            <a:off x="5003640" y="3573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прессионизм - н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аправление в искусств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представители которого стремились наиболее естественно и непредвзято запечатлеть реальный мир в его подвижности и изменчивости, передать свои мимолетные впечатл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Они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внесли в искусство свежесть и непосредственность восприятия жизни, изображение мгновенных, как бы случайных движений и ситуаций, кажущуюся неуравновешенность, фрагментарность композиции, неожиданные точки зрения, ракурсы, срезы фигур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жники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выработали последовательную систему пленэра; работая на открытом воздухе, они создавали ощущение сверкающего солнечного света, богатства красок природы, растворения объемных форм в вибрации света и воздух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4500720" cy="5519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2421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иболее типичной для импрессионистов темой является пейзаж, однако они в своем творчестве затрагивали и многие другие 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384360" cy="431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11640" y="765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нуар, например, изображал очаровательных женщин и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5373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 Дега – скачки, балерин и прач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В импрессионистических пейзажах, создаваемых на открытом воздухе, простой, будничный мотив часто преображается всепроникающим подвижным светом, вносящим в картину ощущение праздничности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Клод Моне После ланча"/>
          <p:cNvPicPr/>
          <p:nvPr/>
        </p:nvPicPr>
        <p:blipFill>
          <a:blip r:embed="rId1"/>
          <a:stretch/>
        </p:blipFill>
        <p:spPr>
          <a:xfrm>
            <a:off x="1403280" y="1700280"/>
            <a:ext cx="590544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Пабло Пикассо"/>
          <p:cNvPicPr/>
          <p:nvPr/>
        </p:nvPicPr>
        <p:blipFill>
          <a:blip r:embed="rId1"/>
          <a:stretch/>
        </p:blipFill>
        <p:spPr>
          <a:xfrm>
            <a:off x="4932360" y="549360"/>
            <a:ext cx="3787920" cy="345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Пабло Пикассо"/>
          <p:cNvPicPr/>
          <p:nvPr/>
        </p:nvPicPr>
        <p:blipFill>
          <a:blip r:embed="rId2"/>
          <a:stretch/>
        </p:blipFill>
        <p:spPr>
          <a:xfrm>
            <a:off x="324000" y="4581360"/>
            <a:ext cx="4968720" cy="2016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177336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отдельных приемах импрессионистского построения композиции и пространства ощутимо влияние японской гравюры и отчасти фотограф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Альфред Сислей Сена у Буживаля весной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424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522936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мпрессионисты впервые создали многогранную картину повседневной жизни современного города, запечатлели своеобразие его пейзажа и облик населяющих его людей, их быта, труда и развлеч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067280" y="1268280"/>
            <a:ext cx="489744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234936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звание «импрессионизм» возникло после выставки 1874 года в Париже, на которой экспонировалась картина Клода Моне «Впечатление. Восход солнц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дробнее о главных представителях импрессиониз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472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4:52:40Z</dcterms:created>
  <dc:creator>Женя и Настя</dc:creator>
  <dc:description/>
  <dc:language>en-US</dc:language>
  <cp:lastModifiedBy>User_02</cp:lastModifiedBy>
  <dcterms:modified xsi:type="dcterms:W3CDTF">2009-10-28T11:26:57Z</dcterms:modified>
  <cp:revision>3</cp:revision>
  <dc:subject/>
  <dc:title>Импрессионизм</dc:title>
</cp:coreProperties>
</file>